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A74F-9C0B-48B3-9C15-46B545B0C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160B-F68C-4390-924E-E4E8A5933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1270-2A3A-4AEF-8377-D1745EDEC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E9E7-F292-468D-BBA9-DC262066B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5A3A-82A7-4977-B26F-0A52E7AB7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D761-D9DD-4685-9813-E14A5216E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D769-C3EE-48A5-AA90-3EC59CFFD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5C9B-50CF-41BB-B516-1718C7E0F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07A2-9598-4408-B023-2DC96FBD2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2488-0E5B-4833-9B6C-BFA5822D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6A9E-0125-4FF0-B0AA-1B4639956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4821-8D92-4606-AA5E-88A3315B2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4CC5C-E362-458C-8B32-067D344C862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788000" y="6237000"/>
            <a:ext cx="41400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Myriad Pro"/>
              </a:rPr>
              <a:t>www.FreepptBackgrounds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6"/>
          <p:cNvSpPr/>
          <p:nvPr/>
        </p:nvSpPr>
        <p:spPr>
          <a:xfrm>
            <a:off x="1763640" y="2781360"/>
            <a:ext cx="604836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c000"/>
                </a:solidFill>
                <a:latin typeface="Myriad Pro"/>
              </a:rPr>
              <a:t>Free PPT Backgr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560" y="1125360"/>
            <a:ext cx="3476520" cy="98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04040"/>
                </a:solidFill>
                <a:latin typeface="Arial"/>
              </a:rPr>
              <a:t>Slide Ma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560" y="2349360"/>
            <a:ext cx="50418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Free Powerpoint Templ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Visit to: </a:t>
            </a:r>
            <a:r>
              <a:rPr b="0" lang="tr-TR" sz="1600" spc="-1" strike="noStrike">
                <a:solidFill>
                  <a:srgbClr val="ffc000"/>
                </a:solidFill>
                <a:latin typeface="Arial"/>
              </a:rPr>
              <a:t>www.freepptbackgrounds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Sel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404040"/>
                </a:solidFill>
                <a:latin typeface="Arial"/>
              </a:rPr>
              <a:t>Categories &amp; Colors &amp; Popular Temp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Select your liked template desig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Download free and use it your presen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And Share our web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4716360" y="4437000"/>
            <a:ext cx="403092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Group Presentation Overview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Project Descriptio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A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1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95280" y="1196640"/>
            <a:ext cx="34765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04040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2987640" y="2852640"/>
            <a:ext cx="504036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Free Powerpoint Templ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Visit to: </a:t>
            </a:r>
            <a:r>
              <a:rPr b="0" lang="tr-TR" sz="1600" spc="-1" strike="noStrike">
                <a:solidFill>
                  <a:srgbClr val="ffc000"/>
                </a:solidFill>
                <a:latin typeface="Arial"/>
                <a:ea typeface="Arial"/>
              </a:rPr>
              <a:t>www.freepptbackgrounds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Sel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404040"/>
                </a:solidFill>
                <a:latin typeface="Arial"/>
                <a:ea typeface="Arial"/>
              </a:rPr>
              <a:t>Categories &amp; Colors &amp; Popular Temp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Select your liked template desig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Download free and use it your presen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And Share our web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Free PPT Backgrounds</dc:creator>
  <dc:description>Free PPT Backgrounds
http://www.freepptbackgrounds.net</dc:description>
  <dc:language>en-US</dc:language>
  <cp:lastModifiedBy>hiko</cp:lastModifiedBy>
  <dcterms:modified xsi:type="dcterms:W3CDTF">2013-08-26T06:23:41Z</dcterms:modified>
  <cp:revision>780</cp:revision>
  <dc:subject/>
  <dc:title>Free PPT Backgrounds</dc:title>
</cp:coreProperties>
</file>